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7E21-1FF7-4A0A-8023-009AE22C5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9F3F-1544-40DE-8AD9-81ACD79F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9109-6C7D-4322-90C5-86E89C0F2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58F3-8EF5-40DB-BDAE-B89DEC808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637C-6FF2-4832-A493-C2761C65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CFF1-B4D8-4AC8-BF78-F64CBDF4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CECA-457B-4F7D-BBFE-BAB1C8BB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9C9A-ECC7-497D-8D8E-B510E50A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0F2F-9DAA-44D1-9813-DE860A8D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D945-B003-40B3-96B3-959B894E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86D5-A781-4FFA-B9BA-3FD92792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F608-DB81-4E31-9468-2DD95B77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6F3C-796D-4F35-BFBE-37FC24BC9239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ccffff"/>
                </a:solidFill>
                <a:latin typeface="Arial"/>
              </a:rPr>
              <a:t>Managementul calităţii în educaţi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anagementul calit</a:t>
            </a:r>
            <a:r>
              <a:rPr b="0" lang="ro-RO" sz="4400" spc="-1" strike="noStrike">
                <a:solidFill>
                  <a:srgbClr val="ccffff"/>
                </a:solidFill>
                <a:latin typeface="Arial"/>
              </a:rPr>
              <a:t>ăţii în educaţi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2492280"/>
            <a:ext cx="821844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Arial"/>
              </a:rPr>
              <a:t>Comisia pentru evaluare şi asigurarea calităţii î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4000" spc="-1" strike="noStrike">
                <a:solidFill>
                  <a:srgbClr val="ffffff"/>
                </a:solidFill>
                <a:latin typeface="Arial"/>
              </a:rPr>
              <a:t>unităţile de învăţământ preuniversit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95280" y="2421000"/>
            <a:ext cx="842472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Arial"/>
              </a:rPr>
              <a:t>Comisia de evaluare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3600" spc="-1" strike="noStrike">
                <a:solidFill>
                  <a:srgbClr val="ffffff"/>
                </a:solidFill>
                <a:latin typeface="Arial"/>
              </a:rPr>
              <a:t>şi asigurare a calităţii -CEA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Arial"/>
              </a:rPr>
              <a:t>şi rolul ei în asigurarea calităţii educaţie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Aracip4"/>
          <p:cNvPicPr/>
          <p:nvPr/>
        </p:nvPicPr>
        <p:blipFill>
          <a:blip r:embed="rId1"/>
          <a:stretch/>
        </p:blipFill>
        <p:spPr>
          <a:xfrm>
            <a:off x="0" y="0"/>
            <a:ext cx="8964720" cy="1484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Aracip4"/>
          <p:cNvPicPr/>
          <p:nvPr/>
        </p:nvPicPr>
        <p:blipFill>
          <a:blip r:embed="rId2"/>
          <a:stretch/>
        </p:blipFill>
        <p:spPr>
          <a:xfrm>
            <a:off x="0" y="0"/>
            <a:ext cx="89647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916000" y="1915920"/>
            <a:ext cx="622764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cc0000"/>
                </a:solidFill>
                <a:latin typeface="Arial"/>
              </a:rPr>
              <a:t>Comisia pentru evaluarea şi asigurarea calităţ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ffff00"/>
                </a:solidFill>
                <a:latin typeface="Arial"/>
              </a:rPr>
              <a:t>4-8 membri + 1 coordona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ro-RO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ro-RO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ro-RO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ro-RO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ro-RO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ro-RO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ro-RO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ro-RO" sz="2000" spc="-1" strike="noStrike">
                <a:solidFill>
                  <a:srgbClr val="ffff00"/>
                </a:solidFill>
                <a:latin typeface="Arial"/>
              </a:rPr>
              <a:t>conducătorul organizaţiei/un alt </a:t>
            </a:r>
            <a:r>
              <a:rPr b="1" i="1" lang="ro-RO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ro-RO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ro-RO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ro-RO" sz="2000" spc="-1" strike="noStrike">
                <a:solidFill>
                  <a:srgbClr val="ffff00"/>
                </a:solidFill>
                <a:latin typeface="Arial"/>
              </a:rPr>
              <a:t>coordonator desemn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ro-RO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ro-RO" sz="2000" spc="-1" strike="noStrike">
                <a:solidFill>
                  <a:srgbClr val="ffff00"/>
                </a:solidFill>
                <a:latin typeface="Arial"/>
              </a:rPr>
              <a:t>nu pot îndeplini funcţii de conducere, cu excepţia conducătorului/coordonatorulu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3" descr="Aracip4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1736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0" y="1844640"/>
            <a:ext cx="2843280" cy="5013360"/>
          </a:xfrm>
          <a:prstGeom prst="rect">
            <a:avLst/>
          </a:prstGeom>
          <a:ln w="0">
            <a:noFill/>
          </a:ln>
        </p:spPr>
      </p:pic>
      <p:sp>
        <p:nvSpPr>
          <p:cNvPr id="69" name="Line 5"/>
          <p:cNvSpPr/>
          <p:nvPr/>
        </p:nvSpPr>
        <p:spPr>
          <a:xfrm>
            <a:off x="7308720" y="3860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 flipV="1">
            <a:off x="7308720" y="371628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2916360" y="3645000"/>
            <a:ext cx="934920" cy="2952720"/>
          </a:xfrm>
          <a:custGeom>
            <a:avLst/>
            <a:gdLst>
              <a:gd name="textAreaLeft" fmla="*/ 125280 w 934920"/>
              <a:gd name="textAreaRight" fmla="*/ 809640 w 934920"/>
              <a:gd name="textAreaTop" fmla="*/ 516600 h 2952720"/>
              <a:gd name="textAreaBottom" fmla="*/ 214092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1051830"/>
                <a:lnTo>
                  <a:pt x="5565" y="19105"/>
                </a:lnTo>
                <a:lnTo>
                  <a:pt x="21600" y="17280"/>
                </a:lnTo>
                <a:lnTo>
                  <a:pt x="5565" y="10465"/>
                </a:lnTo>
                <a:lnTo>
                  <a:pt x="5565" y="12625"/>
                </a:lnTo>
                <a:arcTo wR="21600" hR="7560" stAng="9748170" swAng="694395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0" y="1700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Ce trebuie să facă organizaţia furnizoare de educaţie pentru ca  CEAC să-şi poată exercita atribuţii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c000"/>
                </a:solidFill>
                <a:latin typeface="Arial"/>
              </a:rPr>
              <a:t>Pasul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c000"/>
                </a:solidFill>
                <a:latin typeface="Arial"/>
              </a:rPr>
              <a:t>Înfiinţarea CE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c000"/>
                </a:solidFill>
                <a:latin typeface="Arial"/>
              </a:rPr>
              <a:t>În cadrul Consiliului de Administraţie al şcolii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-</a:t>
            </a:r>
            <a:r>
              <a:rPr b="1" lang="ro-RO" sz="2800" spc="-1" strike="noStrike">
                <a:solidFill>
                  <a:srgbClr val="ffc000"/>
                </a:solidFill>
                <a:latin typeface="Arial"/>
              </a:rPr>
              <a:t>se hotărăşte înfiinţarea comisie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3" descr="Aracip4"/>
          <p:cNvPicPr/>
          <p:nvPr/>
        </p:nvPicPr>
        <p:blipFill>
          <a:blip r:embed="rId1"/>
          <a:stretch/>
        </p:blipFill>
        <p:spPr>
          <a:xfrm>
            <a:off x="0" y="0"/>
            <a:ext cx="89647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0" y="155700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Pasul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E</a:t>
            </a: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laborarea şi adoptarea</a:t>
            </a:r>
            <a:r>
              <a:rPr b="1" lang="en-GB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regulamentului şi strategi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CA </a:t>
            </a:r>
            <a:r>
              <a:rPr b="0" lang="ro-RO" sz="2400" spc="-1" strike="noStrike">
                <a:solidFill>
                  <a:srgbClr val="ffc000"/>
                </a:solidFill>
                <a:latin typeface="Arial"/>
              </a:rPr>
              <a:t>al unităţii de învăţământ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ffc000"/>
                </a:solidFill>
                <a:latin typeface="Arial"/>
              </a:rPr>
              <a:t>elaborează şi adoptă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Regulamentul de funcţionare 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Strategia  CEAC</a:t>
            </a:r>
            <a:r>
              <a:rPr b="0" lang="ro-RO" sz="2400" spc="-1" strike="noStrike">
                <a:solidFill>
                  <a:srgbClr val="ffc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3" descr="Aracip4"/>
          <p:cNvPicPr/>
          <p:nvPr/>
        </p:nvPicPr>
        <p:blipFill>
          <a:blip r:embed="rId1"/>
          <a:stretch/>
        </p:blipFill>
        <p:spPr>
          <a:xfrm>
            <a:off x="0" y="0"/>
            <a:ext cx="89647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0" y="162864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c000"/>
                </a:solidFill>
                <a:latin typeface="Arial"/>
              </a:rPr>
              <a:t>Pasul 3</a:t>
            </a: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S</a:t>
            </a: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tabilirea perioadei de selecţie, a criteriilor, analiza propuneri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   </a:t>
            </a: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Consiliul de administraţie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c000"/>
                </a:solidFill>
                <a:latin typeface="Arial"/>
              </a:rPr>
              <a:t>- </a:t>
            </a:r>
            <a:r>
              <a:rPr b="1" lang="en-GB" sz="2000" spc="-1" strike="noStrike">
                <a:solidFill>
                  <a:srgbClr val="ffc000"/>
                </a:solidFill>
                <a:latin typeface="Arial"/>
              </a:rPr>
              <a:t>s</a:t>
            </a: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tabileşte</a:t>
            </a:r>
            <a:r>
              <a:rPr b="1" lang="ro-RO" sz="2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ffc000"/>
                </a:solidFill>
                <a:latin typeface="Arial"/>
              </a:rPr>
              <a:t>perioada de  alegere  a membrilor comisiei din rândul cadrelor didactice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c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000"/>
                </a:solidFill>
                <a:latin typeface="Arial"/>
              </a:rPr>
              <a:t>c</a:t>
            </a: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omunică</a:t>
            </a:r>
            <a:r>
              <a:rPr b="1" lang="ro-RO" sz="2000" spc="-1" strike="noStrike">
                <a:solidFill>
                  <a:srgbClr val="ffc000"/>
                </a:solidFill>
                <a:latin typeface="Arial"/>
              </a:rPr>
              <a:t>  </a:t>
            </a:r>
            <a:r>
              <a:rPr b="0" lang="ro-RO" sz="1800" spc="-1" strike="noStrike">
                <a:solidFill>
                  <a:srgbClr val="ffc000"/>
                </a:solidFill>
                <a:latin typeface="Arial"/>
              </a:rPr>
              <a:t>criteriile de selecţie stabilite prin Regulament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c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analizează</a:t>
            </a:r>
            <a:r>
              <a:rPr b="1" lang="ro-RO" sz="20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ffc000"/>
                </a:solidFill>
                <a:latin typeface="Arial"/>
              </a:rPr>
              <a:t>propunerile şi autopropunerile venite din partea cadrelor didactice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c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realizează </a:t>
            </a:r>
            <a:r>
              <a:rPr b="0" lang="ro-RO" sz="1800" spc="-1" strike="noStrike">
                <a:solidFill>
                  <a:srgbClr val="ffc000"/>
                </a:solidFill>
                <a:latin typeface="Arial"/>
              </a:rPr>
              <a:t>cadrul formal de alegere a acestora prin vot secret (consiliul profesoral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3" descr="Aracip4"/>
          <p:cNvPicPr/>
          <p:nvPr/>
        </p:nvPicPr>
        <p:blipFill>
          <a:blip r:embed="rId1"/>
          <a:stretch/>
        </p:blipFill>
        <p:spPr>
          <a:xfrm>
            <a:off x="0" y="0"/>
            <a:ext cx="89647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0" y="162828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c000"/>
                </a:solidFill>
                <a:latin typeface="Arial"/>
              </a:rPr>
              <a:t>Pasul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D</a:t>
            </a: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esemnarea celorlalţi membri ai CE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CA </a:t>
            </a: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solicită  partenerilor implicaţi desemnarea membrilor acestora,  în termenul stabilit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-consiliul elevilor </a:t>
            </a:r>
            <a:r>
              <a:rPr b="0" lang="ro-RO" sz="1800" spc="-1" strike="noStrike">
                <a:solidFill>
                  <a:srgbClr val="ffc000"/>
                </a:solidFill>
                <a:latin typeface="Arial"/>
              </a:rPr>
              <a:t>(pentru nivelul profesional, liceal, postliceal)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-comitetul de părinţi/asociaţia părinţilor din şcoală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-consiliul local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000"/>
                </a:solidFill>
                <a:latin typeface="Arial"/>
              </a:rPr>
              <a:t>-</a:t>
            </a: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reprezentant sindicat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- comunitatea minoritară</a:t>
            </a:r>
            <a:r>
              <a:rPr b="0" lang="ro-RO" sz="1800" spc="-1" strike="noStrike">
                <a:solidFill>
                  <a:srgbClr val="ffc000"/>
                </a:solidFill>
                <a:latin typeface="Arial"/>
              </a:rPr>
              <a:t>, după caz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3" descr="Aracip4"/>
          <p:cNvPicPr/>
          <p:nvPr/>
        </p:nvPicPr>
        <p:blipFill>
          <a:blip r:embed="rId1"/>
          <a:stretch/>
        </p:blipFill>
        <p:spPr>
          <a:xfrm>
            <a:off x="0" y="0"/>
            <a:ext cx="89647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0" y="155700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c000"/>
                </a:solidFill>
                <a:latin typeface="Arial"/>
              </a:rPr>
              <a:t>Pasul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D</a:t>
            </a: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ecizia de înfiinţ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Directorul unităţii şcolare emite decizia de înfiinţare a Comisiei de evaluare şi asigurare a calităţii din  şcoal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3" descr="Aracip4"/>
          <p:cNvPicPr/>
          <p:nvPr/>
        </p:nvPicPr>
        <p:blipFill>
          <a:blip r:embed="rId1"/>
          <a:stretch/>
        </p:blipFill>
        <p:spPr>
          <a:xfrm>
            <a:off x="0" y="0"/>
            <a:ext cx="89647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628280"/>
            <a:ext cx="9144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79ff79"/>
                </a:solidFill>
                <a:latin typeface="Arial"/>
              </a:rPr>
              <a:t>Activitatea CE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c000"/>
                </a:solidFill>
                <a:latin typeface="Arial"/>
              </a:rPr>
              <a:t>Pasul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P</a:t>
            </a: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lanul operaţ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CEAC</a:t>
            </a:r>
            <a:r>
              <a:rPr b="0" lang="ro-RO" sz="2400" spc="-1" strike="noStrike">
                <a:solidFill>
                  <a:srgbClr val="ffc000"/>
                </a:solidFill>
                <a:latin typeface="Arial"/>
              </a:rPr>
              <a:t> preia  </a:t>
            </a:r>
            <a:r>
              <a:rPr b="0" i="1" lang="ro-RO" sz="2400" spc="-1" strike="noStrike">
                <a:solidFill>
                  <a:srgbClr val="ffc000"/>
                </a:solidFill>
                <a:latin typeface="Arial"/>
              </a:rPr>
              <a:t>Regulamentul </a:t>
            </a:r>
            <a:r>
              <a:rPr b="0" i="1" lang="en-GB" sz="2400" spc="-1" strike="noStrike">
                <a:solidFill>
                  <a:srgbClr val="ffc000"/>
                </a:solidFill>
                <a:latin typeface="Arial"/>
              </a:rPr>
              <a:t>de </a:t>
            </a:r>
            <a:r>
              <a:rPr b="0" i="1" lang="ro-RO" sz="2400" spc="-1" strike="noStrike">
                <a:solidFill>
                  <a:srgbClr val="ffc000"/>
                </a:solidFill>
                <a:latin typeface="Arial"/>
              </a:rPr>
              <a:t>funcţionare</a:t>
            </a:r>
            <a:r>
              <a:rPr b="0" lang="ro-RO" sz="2400" spc="-1" strike="noStrike">
                <a:solidFill>
                  <a:srgbClr val="ffc000"/>
                </a:solidFill>
                <a:latin typeface="Arial"/>
              </a:rPr>
              <a:t> şi </a:t>
            </a:r>
            <a:r>
              <a:rPr b="0" i="1" lang="ro-RO" sz="2400" spc="-1" strike="noStrike">
                <a:solidFill>
                  <a:srgbClr val="ffc000"/>
                </a:solidFill>
                <a:latin typeface="Arial"/>
              </a:rPr>
              <a:t>Strategia de evaluare şi asigurarea a calităţii</a:t>
            </a:r>
            <a:r>
              <a:rPr b="0" lang="ro-RO" sz="2400" spc="-1" strike="noStrike">
                <a:solidFill>
                  <a:srgbClr val="ffc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92d050"/>
                </a:solidFill>
                <a:latin typeface="Arial"/>
              </a:rPr>
              <a:t>elaborează</a:t>
            </a:r>
            <a:r>
              <a:rPr b="0" lang="ro-RO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un </a:t>
            </a:r>
            <a:r>
              <a:rPr b="0" i="1" lang="ro-RO" sz="2400" spc="-1" strike="noStrike">
                <a:solidFill>
                  <a:srgbClr val="ffc000"/>
                </a:solidFill>
                <a:latin typeface="Arial"/>
              </a:rPr>
              <a:t>Plan operaţional anual </a:t>
            </a: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ffc000"/>
                </a:solidFill>
                <a:latin typeface="Arial"/>
              </a:rPr>
              <a:t>cuprinzând </a:t>
            </a:r>
            <a:r>
              <a:rPr b="0" i="1" lang="ro-RO" sz="2400" spc="-1" strike="noStrike">
                <a:solidFill>
                  <a:srgbClr val="ffc000"/>
                </a:solidFill>
                <a:latin typeface="Arial"/>
              </a:rPr>
              <a:t>proceduri şi activităţi</a:t>
            </a:r>
            <a:r>
              <a:rPr b="0" lang="ro-RO" sz="2400" spc="-1" strike="noStrike">
                <a:solidFill>
                  <a:srgbClr val="ffc000"/>
                </a:solidFill>
                <a:latin typeface="Arial"/>
              </a:rPr>
              <a:t> de evaluare şi asigurare a calităţi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3" descr="Aracip4"/>
          <p:cNvPicPr/>
          <p:nvPr/>
        </p:nvPicPr>
        <p:blipFill>
          <a:blip r:embed="rId1"/>
          <a:stretch/>
        </p:blipFill>
        <p:spPr>
          <a:xfrm>
            <a:off x="0" y="0"/>
            <a:ext cx="89647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Exerciţiu: Întocmiţi planul operaţional, conform tabelului următor, pentr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Domeniul: C. Managementul calităţii; criteriul : d) proceduri de evaluare periodică a calităţii corpului profesoral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(Standardele de acreditare şi evaluare periodică a 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unităţilor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 de învăţământ preuniversitar – anexa H.G. nr. 21/10.01.2007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Managementul calit</a:t>
            </a:r>
            <a:r>
              <a:rPr b="0" lang="ro-RO" sz="4000" spc="-1" strike="noStrike">
                <a:solidFill>
                  <a:srgbClr val="ccffff"/>
                </a:solidFill>
                <a:latin typeface="Arial"/>
              </a:rPr>
              <a:t>ăţii în educaţi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Arial"/>
              </a:rPr>
              <a:t>Autoevaluare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Arial"/>
              </a:rPr>
              <a:t>Comisia pentru evaluare şi asigurarea calităţii î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4000" spc="-1" strike="noStrike">
                <a:solidFill>
                  <a:srgbClr val="ffffff"/>
                </a:solidFill>
                <a:latin typeface="Arial"/>
              </a:rPr>
              <a:t>unităţile de învăţământ preuniversit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Arial"/>
              </a:rPr>
              <a:t>Instrumente de autoevalua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332000" y="2636640"/>
            <a:ext cx="725472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PLANUL OPERAŢ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3" descr="Aracip4"/>
          <p:cNvPicPr/>
          <p:nvPr/>
        </p:nvPicPr>
        <p:blipFill>
          <a:blip r:embed="rId1"/>
          <a:stretch/>
        </p:blipFill>
        <p:spPr>
          <a:xfrm>
            <a:off x="395280" y="0"/>
            <a:ext cx="8748720" cy="17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1042920" y="2492280"/>
          <a:ext cx="7489800" cy="3889440"/>
        </p:xfrm>
        <a:graphic>
          <a:graphicData uri="http://schemas.openxmlformats.org/drawingml/2006/table">
            <a:tbl>
              <a:tblPr/>
              <a:tblGrid>
                <a:gridCol w="436680"/>
                <a:gridCol w="1090440"/>
                <a:gridCol w="800280"/>
                <a:gridCol w="1000080"/>
                <a:gridCol w="1352520"/>
                <a:gridCol w="774720"/>
                <a:gridCol w="1100160"/>
                <a:gridCol w="934920"/>
              </a:tblGrid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r cr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iective specifi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ăţi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trume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/resurs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abi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rme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alităţi de evaluare a obiectivelo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dcatori de realizar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</a:tr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0" y="1628280"/>
            <a:ext cx="914400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Pasul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A</a:t>
            </a: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probarea planului operaţ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Consiliul de administraţie aprobă planul operaţional anual propus de CEA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3" descr="Aracip4"/>
          <p:cNvPicPr/>
          <p:nvPr/>
        </p:nvPicPr>
        <p:blipFill>
          <a:blip r:embed="rId1"/>
          <a:stretch/>
        </p:blipFill>
        <p:spPr>
          <a:xfrm>
            <a:off x="0" y="0"/>
            <a:ext cx="89647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155700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ffc000"/>
                </a:solidFill>
                <a:latin typeface="Arial"/>
              </a:rPr>
              <a:t>CEAC efectuează o verificare preliminară a documentelor şcolii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3" descr="Aracip4"/>
          <p:cNvPicPr/>
          <p:nvPr/>
        </p:nvPicPr>
        <p:blipFill>
          <a:blip r:embed="rId1"/>
          <a:stretch/>
        </p:blipFill>
        <p:spPr>
          <a:xfrm>
            <a:off x="0" y="0"/>
            <a:ext cx="89647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Pasul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R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ealizarea activităţilor stabilite de evaluare şi asigurare a calităţii, conform planificări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4" descr="Aracip4"/>
          <p:cNvPicPr/>
          <p:nvPr/>
        </p:nvPicPr>
        <p:blipFill>
          <a:blip r:embed="rId1"/>
          <a:stretch/>
        </p:blipFill>
        <p:spPr>
          <a:xfrm>
            <a:off x="0" y="0"/>
            <a:ext cx="91440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Pasul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R</a:t>
            </a:r>
            <a:r>
              <a:rPr b="1" lang="ro-RO" sz="3200" spc="-1" strike="noStrike">
                <a:solidFill>
                  <a:srgbClr val="ffc000"/>
                </a:solidFill>
                <a:latin typeface="Arial"/>
              </a:rPr>
              <a:t>ealizarea raportului anual de evaluare internă a calităţ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Raportul se face public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Consiliul de administraţi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z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ă raportul şi revizuieşte, dacă este cazul, documentele programati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Aracip4"/>
          <p:cNvPicPr/>
          <p:nvPr/>
        </p:nvPicPr>
        <p:blipFill>
          <a:blip r:embed="rId1"/>
          <a:stretch/>
        </p:blipFill>
        <p:spPr>
          <a:xfrm>
            <a:off x="0" y="0"/>
            <a:ext cx="914400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0" y="21337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c000"/>
                </a:solidFill>
                <a:latin typeface="Arial"/>
              </a:rPr>
              <a:t>CEAC formulează un </a:t>
            </a:r>
            <a:r>
              <a:rPr b="1" lang="ro-RO" sz="3600" spc="-1" strike="noStrike">
                <a:solidFill>
                  <a:srgbClr val="ffc000"/>
                </a:solidFill>
                <a:latin typeface="Arial"/>
              </a:rPr>
              <a:t>plan de îmbunătăţire  </a:t>
            </a:r>
            <a:r>
              <a:rPr b="0" lang="ro-RO" sz="3600" spc="-1" strike="noStrike">
                <a:solidFill>
                  <a:srgbClr val="ffc000"/>
                </a:solidFill>
                <a:latin typeface="Arial"/>
              </a:rPr>
              <a:t>pe care îl înaintează, spre aprobare, Consiliului de administraţi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3" descr="Aracip4"/>
          <p:cNvPicPr/>
          <p:nvPr/>
        </p:nvPicPr>
        <p:blipFill>
          <a:blip r:embed="rId1"/>
          <a:stretch/>
        </p:blipFill>
        <p:spPr>
          <a:xfrm>
            <a:off x="0" y="0"/>
            <a:ext cx="89647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o-RO" sz="4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o-RO" sz="4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ro-RO" sz="4400" spc="-1" strike="noStrike">
                <a:solidFill>
                  <a:srgbClr val="cc0000"/>
                </a:solidFill>
                <a:latin typeface="Arial"/>
              </a:rPr>
              <a:t>ROLURI </a:t>
            </a:r>
            <a:r>
              <a:rPr b="0" lang="ro-RO" sz="3200" spc="-1" strike="noStrike">
                <a:solidFill>
                  <a:srgbClr val="cc0000"/>
                </a:solidFill>
                <a:latin typeface="Arial"/>
              </a:rPr>
              <a:t>(art.11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ffff00"/>
                </a:solidFill>
                <a:latin typeface="Arial"/>
              </a:rPr>
              <a:t>Organizaţia furnizoare de educaţi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 u="sng">
                <a:solidFill>
                  <a:srgbClr val="ffff00"/>
                </a:solidFill>
                <a:uFillTx/>
                <a:latin typeface="Arial"/>
              </a:rPr>
              <a:t>Elaboreaz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 u="sng">
                <a:solidFill>
                  <a:srgbClr val="ffff00"/>
                </a:solidFill>
                <a:uFillTx/>
                <a:latin typeface="Arial"/>
              </a:rPr>
              <a:t>Adopt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ro-RO" sz="1800" spc="-1" strike="noStrike">
                <a:solidFill>
                  <a:srgbClr val="ffff00"/>
                </a:solidFill>
                <a:latin typeface="Arial"/>
              </a:rPr>
              <a:t>-STRATEG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ro-RO" sz="1800" spc="-1" strike="noStrike">
                <a:solidFill>
                  <a:srgbClr val="ffff00"/>
                </a:solidFill>
                <a:latin typeface="Arial"/>
              </a:rPr>
              <a:t>-REGULAMENTUL DE FUNCŢION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 u="sng">
                <a:solidFill>
                  <a:srgbClr val="ffff00"/>
                </a:solidFill>
                <a:uFillTx/>
                <a:latin typeface="Arial"/>
              </a:rPr>
              <a:t>Aprob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ffff00"/>
                </a:solidFill>
                <a:latin typeface="Arial"/>
              </a:rPr>
              <a:t>Aprob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4080" y="16002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ffff00"/>
                </a:solidFill>
                <a:latin typeface="Arial"/>
              </a:rPr>
              <a:t>Comisia pentru evaluarea şi asigurarea calităţ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ffff00"/>
                </a:solidFill>
                <a:latin typeface="Arial"/>
              </a:rPr>
              <a:t>Se înfiinţează, </a:t>
            </a: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cf. Re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ffff00"/>
                </a:solidFill>
                <a:latin typeface="Arial"/>
              </a:rPr>
              <a:t>Funcţionează, </a:t>
            </a: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cf. Reg.şi Strategie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ffff00"/>
                </a:solidFill>
                <a:latin typeface="Arial"/>
              </a:rPr>
              <a:t>Elaborează…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i="1" lang="ro-RO" sz="1800" spc="-1" strike="noStrike">
                <a:solidFill>
                  <a:srgbClr val="ffff00"/>
                </a:solidFill>
                <a:latin typeface="Arial"/>
              </a:rPr>
              <a:t>- PROCEDURI 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ro-RO" sz="1800" spc="-1" strike="noStrike">
                <a:solidFill>
                  <a:srgbClr val="ffff00"/>
                </a:solidFill>
                <a:latin typeface="Arial"/>
              </a:rPr>
              <a:t>- ACTIVITĂŢI DE EVALUARE ŞI ASIGURARE A CALITĂŢ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ffff00"/>
                </a:solidFill>
                <a:latin typeface="Arial"/>
              </a:rPr>
              <a:t>Coordonează aplicarea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ffff00"/>
                </a:solidFill>
                <a:latin typeface="Arial"/>
              </a:rPr>
              <a:t>Elaborează </a:t>
            </a:r>
            <a:r>
              <a:rPr b="1" i="1" lang="ro-RO" sz="1800" spc="-1" strike="noStrike" u="sng">
                <a:solidFill>
                  <a:srgbClr val="ffff00"/>
                </a:solidFill>
                <a:uFillTx/>
                <a:latin typeface="Arial"/>
              </a:rPr>
              <a:t>raportul anual de evaluare internă; PUBLICAR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o-RO" sz="1800" spc="-1" strike="noStrike">
                <a:solidFill>
                  <a:srgbClr val="ffff00"/>
                </a:solidFill>
                <a:latin typeface="Arial"/>
              </a:rPr>
              <a:t>formulează </a:t>
            </a:r>
            <a:r>
              <a:rPr b="1" i="1" lang="ro-RO" sz="1800" spc="-1" strike="noStrike" u="sng">
                <a:solidFill>
                  <a:srgbClr val="ffff00"/>
                </a:solidFill>
                <a:uFillTx/>
                <a:latin typeface="Arial"/>
              </a:rPr>
              <a:t>propuneri </a:t>
            </a:r>
            <a:r>
              <a:rPr b="1" i="1" lang="ro-RO" sz="1800" spc="-1" strike="noStrike">
                <a:solidFill>
                  <a:srgbClr val="ffff00"/>
                </a:solidFill>
                <a:latin typeface="Arial"/>
              </a:rPr>
              <a:t>de îmbunătăţire a calităţ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2700360" y="33577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7"/>
          <p:cNvSpPr/>
          <p:nvPr/>
        </p:nvSpPr>
        <p:spPr>
          <a:xfrm flipH="1">
            <a:off x="2843280" y="4149720"/>
            <a:ext cx="1800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4643280" y="2205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 flipH="1">
            <a:off x="2771280" y="5661000"/>
            <a:ext cx="187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1"/>
          <p:cNvSpPr/>
          <p:nvPr/>
        </p:nvSpPr>
        <p:spPr>
          <a:xfrm>
            <a:off x="5003640" y="3789360"/>
            <a:ext cx="73080" cy="360360"/>
          </a:xfrm>
          <a:custGeom>
            <a:avLst/>
            <a:gdLst>
              <a:gd name="textAreaLeft" fmla="*/ 46800 w 73080"/>
              <a:gd name="textAreaRight" fmla="*/ 73440 w 7308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42560" y="2060640"/>
            <a:ext cx="7543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c000"/>
                </a:solidFill>
                <a:latin typeface="Arial"/>
              </a:rPr>
              <a:t>Regulamentul CE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Conţinuturi ca necesare oricărui Regulament al CEAC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Obiectivele CEAC şi locul ei în organigrama unităţii şcola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Calitatea de membru CEAC şi procedură de selecţie a membrilor CEAC – diferenţiată pentru fiecare categorie de membri prevăzută de le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Înfiinţarea şi completarea CEA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3" descr="Aracip4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17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42560" y="2060640"/>
            <a:ext cx="7543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c000"/>
                </a:solidFill>
                <a:latin typeface="Arial"/>
              </a:rPr>
              <a:t>Regulamentul CE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Roluri şi responsabilităţi specifice ale membril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Drepturile şi obligaţiile membrilor, recompense şi sancţiu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Documentele elaborate de CEAC şi modul de comunicare cu organismele de conducere – Consiliul de administraţie şi direcţiunea şcolii, cu personalul şcolii şi cu celelalte părţi interes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3" descr="Aracip4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17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42560" y="2060640"/>
            <a:ext cx="7543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c000"/>
                </a:solidFill>
                <a:latin typeface="Arial"/>
              </a:rPr>
              <a:t>Regulamentul CE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Regulamentul poate avea structura şi complexitatea care sunt considerate cele mai convenabile pentru unitatea de învăţămâ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În regulament se pot  prevedea toate situaţiile particulare ale unităţii de învăţămâ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3" descr="Aracip4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17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Managementul calit</a:t>
            </a:r>
            <a:r>
              <a:rPr b="0" lang="ro-RO" sz="4000" spc="-1" strike="noStrike">
                <a:solidFill>
                  <a:srgbClr val="ccffff"/>
                </a:solidFill>
                <a:latin typeface="Arial"/>
              </a:rPr>
              <a:t>ăţii în educaţi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utoevaluare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42560" y="2060640"/>
            <a:ext cx="7543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c000"/>
                </a:solidFill>
                <a:latin typeface="Arial"/>
              </a:rPr>
              <a:t>Regulamentul CE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Pot membrii Comisiei efectua asistenţe la ore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Care este procedura de culegere a datelor privind activitatea cu elevii a cadrelor didactice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Care este numărul de  membri ai CEAC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Care este durata mandatului unui membru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3" descr="Aracip4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17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42560" y="2060640"/>
            <a:ext cx="7543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c000"/>
                </a:solidFill>
                <a:latin typeface="Arial"/>
              </a:rPr>
              <a:t>Regulamentul CE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Care este modalitatea de evaluare a activităţii membrilor CEAC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Care sunt modalităţile de  remunerare a membrilor CEAC 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Care este spaţiul de lucru alocat CEAC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Care sunt echipamentele la care membrii CEAC au acces sau sunt în folosinţă exclusivă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e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3" descr="Aracip4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17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42560" y="2060640"/>
            <a:ext cx="7543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c000"/>
                </a:solidFill>
                <a:latin typeface="Arial"/>
              </a:rPr>
              <a:t>Strategie  de evaluare internă a calităţ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c000"/>
                </a:solidFill>
                <a:latin typeface="Arial"/>
              </a:rPr>
              <a:t>Cuprin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Motivaţ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Proiectarea şi planificarea activităţii de evaluare a calităţii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(ţintele strategice ale evaluării calităţii , abordările strategice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termenele, rolurile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şi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responsabilităţile, avantaje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3" descr="Aracip4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17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42560" y="2060640"/>
            <a:ext cx="7543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c000"/>
                </a:solidFill>
                <a:latin typeface="Arial"/>
              </a:rPr>
              <a:t>Strategie  de evaluare internă a calităţ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Modalităţile de implementare a strategiei de evaluare a calităţ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Instrumente şi proceduri de evaluarea internă (autoevaluare) a calităţii</a:t>
            </a:r>
            <a:r>
              <a:rPr b="0" lang="ro-RO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Modalităţi şi proceduri de îmbunătăţire a calităţ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3" descr="Aracip4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17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Managementul calit</a:t>
            </a:r>
            <a:r>
              <a:rPr b="0" lang="ro-RO" sz="4000" spc="-1" strike="noStrike">
                <a:solidFill>
                  <a:srgbClr val="ccffff"/>
                </a:solidFill>
                <a:latin typeface="Arial"/>
              </a:rPr>
              <a:t>ăţii în educaţi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Arial"/>
              </a:rPr>
              <a:t>Instrumente de autoevalua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42560" y="2060640"/>
            <a:ext cx="7543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Instrumentele Comisiei pentru evaluarea şi asigurarea calităţi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Fişe şi alte instrumente de evalua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Declaraţii de intenţii ale comisiilor de specialitate din şcoal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Chestiona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Ghiduri pentru interviuri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Ghiduri de observaţi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Rapoarte scris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Diferite fişe de aprecie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Plan operaţiona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Fişă de analiză a documentelor şcolii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3" descr="Aracip4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17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600" spc="-1" strike="noStrike">
                <a:solidFill>
                  <a:srgbClr val="ccffff"/>
                </a:solidFill>
                <a:latin typeface="Arial"/>
              </a:rPr>
              <a:t>Metodele şi instrumentele</a:t>
            </a:r>
            <a:r>
              <a:rPr b="0" lang="ro-RO" sz="3600" spc="-1" strike="noStrike">
                <a:solidFill>
                  <a:srgbClr val="ccffff"/>
                </a:solidFill>
                <a:latin typeface="Arial"/>
              </a:rPr>
              <a:t> care pot fi folosite: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ff0066"/>
                </a:solidFill>
                <a:latin typeface="Arial"/>
              </a:rPr>
              <a:t>Observarea</a:t>
            </a:r>
            <a:r>
              <a:rPr b="0" lang="ro-RO" sz="3200" spc="-1" strike="noStrike">
                <a:solidFill>
                  <a:srgbClr val="ff0066"/>
                </a:solidFill>
                <a:latin typeface="Arial"/>
              </a:rPr>
              <a:t>, pe baza unui Ghid de observar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ccff33"/>
                </a:solidFill>
                <a:latin typeface="Arial"/>
              </a:rPr>
              <a:t>Ancheta</a:t>
            </a:r>
            <a:r>
              <a:rPr b="0" lang="ro-RO" sz="3200" spc="-1" strike="noStrike">
                <a:solidFill>
                  <a:srgbClr val="ccff33"/>
                </a:solidFill>
                <a:latin typeface="Arial"/>
              </a:rPr>
              <a:t> – chestionar sau interviu (Ghid de interviu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ff99ff"/>
                </a:solidFill>
                <a:latin typeface="Arial"/>
              </a:rPr>
              <a:t>Analiza documentelor</a:t>
            </a:r>
            <a:r>
              <a:rPr b="0" lang="ro-RO" sz="3200" spc="-1" strike="noStrike">
                <a:solidFill>
                  <a:srgbClr val="ff99ff"/>
                </a:solidFill>
                <a:latin typeface="Arial"/>
              </a:rPr>
              <a:t>, pe baza unui formular de analiz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i="1" lang="ro-RO" sz="3200" spc="-1" strike="noStrike">
                <a:solidFill>
                  <a:srgbClr val="ffffff"/>
                </a:solidFill>
                <a:latin typeface="Arial"/>
              </a:rPr>
              <a:t>Acestea reprezintă sursa dovezi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ccffff"/>
                </a:solidFill>
                <a:latin typeface="Arial"/>
              </a:rPr>
              <a:t>În esenţă, procedura răspunde la întrebările:</a:t>
            </a:r>
            <a:br>
              <a:rPr sz="4000"/>
            </a:br>
            <a:endParaRPr b="0" lang="en-US" sz="3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66ccff"/>
                </a:solidFill>
                <a:latin typeface="Arial"/>
              </a:rPr>
              <a:t>Cine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face o anumită activit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3300"/>
                </a:solidFill>
                <a:latin typeface="Arial"/>
              </a:rPr>
              <a:t>Ce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activitate trebuie realizat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b000"/>
                </a:solidFill>
                <a:latin typeface="Arial"/>
              </a:rPr>
              <a:t>Cum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anume se va realiza acea activit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3366cc"/>
                </a:solidFill>
                <a:latin typeface="Arial"/>
              </a:rPr>
              <a:t>Când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şi </a:t>
            </a:r>
            <a:r>
              <a:rPr b="1" lang="ro-RO" sz="3200" spc="-1" strike="noStrike">
                <a:solidFill>
                  <a:srgbClr val="ff99ff"/>
                </a:solidFill>
                <a:latin typeface="Arial"/>
              </a:rPr>
              <a:t>unde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se va realiza activitate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ffff"/>
                </a:solidFill>
                <a:latin typeface="Arial"/>
              </a:rPr>
              <a:t>Care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vor fi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ff3300"/>
                </a:solidFill>
                <a:latin typeface="Arial"/>
              </a:rPr>
              <a:t>rezultatele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respectivei activităţi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42560" y="2060640"/>
            <a:ext cx="7543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c000"/>
                </a:solidFill>
                <a:latin typeface="Arial"/>
              </a:rPr>
              <a:t>PROCEDURA- “paşii” urmăriţi într-o anumită activita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Exemplu de procedură privind „(…)revizuirea periodică a programelor şi activităţilor desfăşurate” (Domeniul C „Managementul calităţii”, criteriul b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3" descr="Aracip4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17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428760" y="2500200"/>
            <a:ext cx="835812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1.Chestionarea elevilor şi sau a părinţi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2. Analiza rezultatelor chestionării de către membrii CEAC sau de către persoane desemnate de către CEAC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3. Propunerea unor noi activităţi extracurriculare şi / sau discipline opţion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3. Mediatizarea ofertei în rândul părinţilor şi a elevil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4. Selectarea noilor activităţi extracuricul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5 . Analiza şi aprobarea lor de către Consiliul de administraţi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6. Obţinerea, dacă este cazul, a avizelor de la ISJ/ISM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3" descr="Aracip4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050560" y="1844280"/>
            <a:ext cx="6751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ffff00"/>
                </a:solidFill>
                <a:latin typeface="Arial"/>
              </a:rPr>
              <a:t>Ce este autoevaluarea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000"/>
                </a:solidFill>
                <a:latin typeface="Arial"/>
              </a:rPr>
              <a:t>Modalitatea </a:t>
            </a:r>
            <a:r>
              <a:rPr b="1" i="1" lang="ro-RO" sz="2000" spc="-1" strike="noStrike">
                <a:solidFill>
                  <a:srgbClr val="ffc000"/>
                </a:solidFill>
                <a:latin typeface="Arial"/>
              </a:rPr>
              <a:t>esenţială de asigurare a calităţii prin care instituţia şcolară îşi evaluează ea însăşi performanţa</a:t>
            </a:r>
            <a:r>
              <a:rPr b="1" i="1" lang="en-US" sz="2000" spc="-1" strike="noStrike">
                <a:solidFill>
                  <a:srgbClr val="ffc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ffff00"/>
                </a:solidFill>
                <a:latin typeface="Arial"/>
              </a:rPr>
              <a:t>Autoevaluare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?</a:t>
            </a:r>
            <a:r>
              <a:rPr b="1" i="1" lang="ro-RO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i="1" lang="ro-RO" sz="3200" spc="-1" strike="noStrike">
                <a:solidFill>
                  <a:srgbClr val="ffff00"/>
                </a:solidFill>
                <a:latin typeface="Arial"/>
              </a:rPr>
              <a:t>e ce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ffc000"/>
                </a:solidFill>
                <a:latin typeface="Arial"/>
              </a:rPr>
              <a:t>Este un pas iniţial, benefic şi util, cu scopul de a asigura dezvoltarea, creşterea şi nu de a sancţion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ffc000"/>
                </a:solidFill>
                <a:latin typeface="Arial"/>
              </a:rPr>
              <a:t>Asigură autoreglarea, optimizarea şi revizuirea funcţionării şi dezvoltării instituţiei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ffc000"/>
                </a:solidFill>
                <a:latin typeface="Arial"/>
              </a:rPr>
              <a:t>Reprezintă asumarea reală a rezultatelor ei de către toţi cei implicaţ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3" descr="Aracip4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1736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0" y="1844640"/>
            <a:ext cx="2050920" cy="50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42560" y="2060640"/>
            <a:ext cx="7543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aport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ul anual </a:t>
            </a: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de evaluare intern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privind calitatea educaţie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Este structurat pe domeniile şi criteriile din Legea nr.87/2006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Este obiectiv, realis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Urmăreşte raportul dintre rezultatele obţinute(RO) şi rezultatele aşteptate(RA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Este realizat prin participarea tuturor actorilor implicaţi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Este adus la cunoştinţa tuturor beneficiarilor prin afişare sau publica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3" descr="Aracip4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17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42560" y="2060640"/>
            <a:ext cx="7543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tructura R</a:t>
            </a: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aport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ul ui anual </a:t>
            </a: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de evaluare intern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privind calitatea educaţiei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(model Anexa 5 din Ghidul CEAC II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PARTEA I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 INFORMATII GENER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PARTEA A II-A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DESCRIEREA ACTIVITĂŢILOR DE ÎMBUNĂTĂŢIRE A CALITĂŢII REALIZ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79ff79"/>
                </a:solidFill>
                <a:latin typeface="Arial"/>
              </a:rPr>
              <a:t>PARTEA A-III-A </a:t>
            </a:r>
            <a:r>
              <a:rPr b="1" lang="en-US" sz="2400" spc="-1" strike="noStrike">
                <a:solidFill>
                  <a:srgbClr val="79ff79"/>
                </a:solidFill>
                <a:latin typeface="Arial"/>
              </a:rPr>
              <a:t>-</a:t>
            </a:r>
            <a:r>
              <a:rPr b="1" lang="ro-RO" sz="2400" spc="-1" strike="noStrike">
                <a:solidFill>
                  <a:srgbClr val="79ff79"/>
                </a:solidFill>
                <a:latin typeface="Arial"/>
              </a:rPr>
              <a:t>NIVELUL DE REALIZARE A INDICATORILOR DE PERFORMANŢ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c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ARTEA A IV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–PLANUL DE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ÎMBUNĂTĂŢIRE pentru anul şcolar următor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3" descr="Aracip4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17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Studiu de caz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Raportul anual de evaluare internă a calităţ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09120" y="17524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cc0000"/>
                </a:solidFill>
                <a:latin typeface="Arial"/>
              </a:rPr>
              <a:t>Resurse web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o-RO" sz="2000" spc="-1" strike="noStrike" u="sng">
                <a:solidFill>
                  <a:srgbClr val="ffffff"/>
                </a:solidFill>
                <a:uFillTx/>
                <a:latin typeface="Arial"/>
              </a:rPr>
              <a:t>http://europa.eu.int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o-RO" sz="2000" spc="-1" strike="noStrike" u="sng">
                <a:solidFill>
                  <a:srgbClr val="ffffff"/>
                </a:solidFill>
                <a:uFillTx/>
                <a:latin typeface="Arial"/>
              </a:rPr>
              <a:t>http://portal.unesco.org/education/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o-RO" sz="2000" spc="-1" strike="noStrike" u="sng">
                <a:solidFill>
                  <a:srgbClr val="ffffff"/>
                </a:solidFill>
                <a:uFillTx/>
                <a:latin typeface="Arial"/>
              </a:rPr>
              <a:t>http://www.edu.ro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http://aracip.edu.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o-RO" sz="2000" spc="-1" strike="noStrike" u="sng">
                <a:solidFill>
                  <a:srgbClr val="ffffff"/>
                </a:solidFill>
                <a:uFillTx/>
                <a:latin typeface="Arial"/>
              </a:rPr>
              <a:t>http://www.efqm.org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o-RO" sz="2000" spc="-1" strike="noStrike" u="sng">
                <a:solidFill>
                  <a:srgbClr val="ffffff"/>
                </a:solidFill>
                <a:uFillTx/>
                <a:latin typeface="Arial"/>
              </a:rPr>
              <a:t>http://www.hmie.gov.uk/documents/publication/hgios.html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http://www.ise.ro</a:t>
            </a:r>
            <a:r>
              <a:rPr b="0" lang="ro-RO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o-RO" sz="2000" spc="-1" strike="noStrike" u="sng">
                <a:solidFill>
                  <a:srgbClr val="ffffff"/>
                </a:solidFill>
                <a:uFillTx/>
                <a:latin typeface="Arial"/>
              </a:rPr>
              <a:t>http://www.I-Probenet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http://www.iso.org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o-RO" sz="2000" spc="-1" strike="noStrike" u="sng">
                <a:solidFill>
                  <a:srgbClr val="ffffff"/>
                </a:solidFill>
                <a:uFillTx/>
                <a:latin typeface="Arial"/>
              </a:rPr>
              <a:t>http://www.onelook.com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http://www.oph.fi/english/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66640" indent="-1857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http://communities.trainingvillage.gr</a:t>
            </a:r>
            <a:r>
              <a:rPr b="0" lang="ro-RO" sz="2000" spc="-1" strike="noStrike" u="sng">
                <a:solidFill>
                  <a:srgbClr val="ffffff"/>
                </a:solidFill>
                <a:uFillTx/>
                <a:latin typeface="Arial"/>
              </a:rPr>
              <a:t>/etv/Projects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_</a:t>
            </a:r>
            <a:r>
              <a:rPr b="0" lang="ro-RO" sz="2000" spc="-1" strike="noStrike" u="sng">
                <a:solidFill>
                  <a:srgbClr val="ffffff"/>
                </a:solidFill>
                <a:uFillTx/>
                <a:latin typeface="Arial"/>
              </a:rPr>
              <a:t>Network/quality/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3" descr="Aracip4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17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42560" y="2060640"/>
            <a:ext cx="7543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3" descr="Aracip4"/>
          <p:cNvPicPr/>
          <p:nvPr/>
        </p:nvPicPr>
        <p:blipFill>
          <a:blip r:embed="rId1"/>
          <a:stretch/>
        </p:blipFill>
        <p:spPr>
          <a:xfrm>
            <a:off x="900000" y="0"/>
            <a:ext cx="5184720" cy="907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4_Spirala_Calitatii___final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611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um se asigură calitatea educaţiei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Procese interne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– planificarea şi realizarea efectivă a rezultatelor, monitorizarea rezultatelor, evaluarea internă a rezultatelor şi aplicarea măsurilor reglatoare /core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Procese externe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– evaluarea externă a rezultatel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4" descr="Aracip4"/>
          <p:cNvPicPr/>
          <p:nvPr/>
        </p:nvPicPr>
        <p:blipFill>
          <a:blip r:embed="rId1"/>
          <a:stretch/>
        </p:blipFill>
        <p:spPr>
          <a:xfrm>
            <a:off x="0" y="0"/>
            <a:ext cx="914400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Monitorizarea rezultatel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in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cadre didactice, elevi, părinţi;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responsabilii comisiilor metodice, CEAC, conducerea unităţii de învăţămâ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â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perman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u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proceduri comune, cunoscu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Aracip4"/>
          <p:cNvPicPr/>
          <p:nvPr/>
        </p:nvPicPr>
        <p:blipFill>
          <a:blip r:embed="rId1"/>
          <a:stretch/>
        </p:blipFill>
        <p:spPr>
          <a:xfrm>
            <a:off x="0" y="0"/>
            <a:ext cx="914400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Evaluarea internă a rezultatelor şi aplicarea măsurilor reglatoare /corective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, dacă este caz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fiecare cadru didactic, fiecare comisie metodică, CEA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â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permanent (evaluarea de parcurs), la sfârşitul ciclului de proiectare, la sfârşitul anulu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şcol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u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instrumente de evalu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Aracip4"/>
          <p:cNvPicPr/>
          <p:nvPr/>
        </p:nvPicPr>
        <p:blipFill>
          <a:blip r:embed="rId1"/>
          <a:stretch/>
        </p:blipFill>
        <p:spPr>
          <a:xfrm>
            <a:off x="0" y="0"/>
            <a:ext cx="914400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Exerciţiu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Realizaţi evaluarea internă pentru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Domeniul : B. Eficacitate educaţională ; criteriul : b) rezultatele învăţări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Standardele de acreditare şi evaluare periodică a </a:t>
            </a:r>
            <a:r>
              <a:rPr b="1" i="1" lang="pt-PT" sz="2400" spc="-1" strike="noStrike">
                <a:solidFill>
                  <a:srgbClr val="ffffff"/>
                </a:solidFill>
                <a:latin typeface="Arial"/>
              </a:rPr>
              <a:t>unităţilor</a:t>
            </a: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 de învăţământ preuniversitar – anexa H.G. nr. 21/10.01.200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10:33:51Z</dcterms:created>
  <dc:creator>user</dc:creator>
  <dc:description/>
  <dc:language>en-US</dc:language>
  <cp:lastModifiedBy>Dana</cp:lastModifiedBy>
  <dcterms:modified xsi:type="dcterms:W3CDTF">2011-05-24T15:12:28Z</dcterms:modified>
  <cp:revision>112</cp:revision>
  <dc:subject/>
  <dc:title>Diapozitivul 1</dc:title>
</cp:coreProperties>
</file>